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21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2134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2134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21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E3E6-6295-49CD-B4A7-7EF3969AA05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F305-6C84-4F9D-B437-EB905A398C11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08B8-6167-4E81-9DFA-EE2288A3A268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B989-69A7-4B7C-B085-CB4B6574CD86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9F60-C32D-4667-9B16-8280872F37E5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BFA9-3899-408A-BD64-2A7DB836E2D1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052A-2A1D-49ED-8B38-13F38EEA4DFF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9672-CFDC-4549-B989-11B0B1626EE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A24B-2027-43CD-BB4D-6B4823A98EA2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FF0D-9244-423B-8FAD-1D96AFC36FB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370B-A73D-4118-AA94-D40862D16D7D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6538-CD59-4D52-BDF5-E1615A6A57A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4AC2-D9DF-42F7-ACCA-D0FEEF0579E6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1F54-3DB7-4DA1-A77D-7C63C5C9A474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C129-8AB7-49A8-9313-35D579DA21D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7B35-3E56-4DD8-AB28-1BFC50FE4CF8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9B4E-A855-40FB-8871-AA9CC3A1D9CF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3C93-4E47-4531-8FA6-178C3B1C5A72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65FF-805E-4431-9CC7-4552A9375B64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224A-61BE-4CDE-810F-E8BF7C19BB8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4127-0274-42A6-B6D5-8DAF4E0013F2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F5E0-948D-410A-AEE2-F58589B0511F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FAF9-3643-4C95-8D0F-8ECAC4D03664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2DF3-4B35-4183-9E48-3C468075D19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8713-C607-4047-BEE7-3937562F30BE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193B-C02D-46FD-A5DE-16A7AFD0E96D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7C30-4F81-4D1C-81E2-854F56E5502C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75F3-C4F0-4DFA-B9AE-12122AAC09C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38F4-D565-4285-BF86-D79F48441184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E98A-7F2B-41D5-819D-5F6775CB7E09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5277-47A6-49CE-8793-BE6083DC35B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4007-83B9-41B0-8C99-CE4229F8F64F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80E3-DF2D-422E-8891-CAC3BBBB7A9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4FF8-4BC6-4323-A489-D1470FEAC746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1E46-5746-4837-8107-A24ADCADD1E4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E467-D1EB-45D4-9F0B-F22765889B0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6880-2549-4A25-8CE6-3345C19198F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55C2-F0EC-4A55-ABD7-E66B8502E13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2DB-6A44-4E98-8965-1D36A309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74A-56F2-40A6-A9D9-3FBF7761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5BE-79BA-4DD1-BE20-67DEE479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361-9A71-4413-91CF-9FD1C910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CB8-C405-4FFA-8FDE-E56E3C0E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6A9-302B-4310-B3DB-1AF91184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D88-754E-4CD4-979A-FD82FD3C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DF1-74A2-4B7C-A9AF-14E67880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280" y="274320"/>
            <a:ext cx="6985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906-6A82-4083-91F7-881E4CD6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A8B-5D64-4BF0-B5FF-82299362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850-0B83-4C86-91AD-AA71CF56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158-B987-4419-B792-5C0F46CA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213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75A5-CC91-413B-9A65-6929E30E4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a32134"/>
              </a:solidFill>
              <a:latin typeface="Comic Sans MS"/>
            </a:endParaRPr>
          </a:p>
        </p:txBody>
      </p:sp>
      <p:pic>
        <p:nvPicPr>
          <p:cNvPr id="5" name="Picture 7" descr="listic"/>
          <p:cNvPicPr/>
          <p:nvPr/>
        </p:nvPicPr>
        <p:blipFill>
          <a:blip r:embed="rId2"/>
          <a:stretch/>
        </p:blipFill>
        <p:spPr>
          <a:xfrm>
            <a:off x="-6480" y="-14400"/>
            <a:ext cx="1803600" cy="1676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a32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356840"/>
            <a:ext cx="871524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000"/>
            </a:b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ШТИНА КУМУНИКАЦИЈ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пецифичности комуникације са оболелима од болести са неповољном прогнозом </a:t>
            </a:r>
            <a:br>
              <a:rPr sz="2800"/>
            </a:br>
            <a:r>
              <a:rPr b="1" lang="ru-RU" sz="1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ставна јединица 1</a:t>
            </a:r>
            <a:r>
              <a:rPr b="1" lang="sr-RS" sz="1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ф. др Марина Петровић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ко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аопштит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у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</a:t>
            </a:r>
            <a:br>
              <a:rPr sz="2800"/>
            </a:b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оралн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ск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7120" y="1428480"/>
            <a:ext cx="4214880" cy="507348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м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ав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ормациј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чијој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ијагноз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гноз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(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м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ав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његов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љ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бр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в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чланов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м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уду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познат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м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шт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олесни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чет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аопштавањ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ра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ра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јбољ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четк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ивањ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мњ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ход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стира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мп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познав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реди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р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доб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гућнос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знемирава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центриш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говорни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ледај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рн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вентуалн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дир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итничк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ђа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јатељ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н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!”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ј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прав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тин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”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6200" y="1356840"/>
            <a:ext cx="4214880" cy="50547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олесниц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ичн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памт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т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зговор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р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знемирен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бр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уд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ош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исутан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л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риј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атких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зговор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и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зулта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стов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ин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екива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же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ш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ш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л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с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личан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о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Желе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их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ама да поразговарам 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 решим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блем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тролишем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имптом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“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аж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азговарај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м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с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виј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с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мре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BCDE </a:t>
            </a: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одел</a:t>
            </a: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е</a:t>
            </a: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1857240"/>
            <a:ext cx="91440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- Advance preparation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напред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B - Build a therapeutic relationship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постављ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рапеутско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C - Communicate well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шће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р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комуникациј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D - Deal with patient's and family reactions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тман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- Encourage and validate emotions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ицај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 третма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DVANCE PREPARATION</a:t>
            </a:r>
            <a:br>
              <a:rPr sz="3600"/>
            </a:b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ипрем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напред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857240"/>
            <a:ext cx="85723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ве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вољ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реме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приватнос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љн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емећај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конструишите релевант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уч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е информациј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ађа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нтално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ит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мислит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 том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ч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избегне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лож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ич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тља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BUILD A THERAPEUTIC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RELATIONSHIP 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спостављање терапеутског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дн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1714320"/>
            <a:ext cx="8001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лож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суств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ла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став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и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чесници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позо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дир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кладно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ре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ту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едеће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станк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COMMUNICATE WELL 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ришћењ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д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р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штин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2560" y="1571760"/>
            <a:ext cx="9001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ћ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цени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ик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х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оле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кре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егав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рминологиј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жљив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ч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о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рзино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звол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ишин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з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акнит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пиш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умевањ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ађаја 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и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мот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рем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пиш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форм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есу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лн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лад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циљеви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дисциплинар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сурс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319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DEAL WITH PATIENT’S AND</a:t>
            </a:r>
            <a:br>
              <a:rPr sz="2800"/>
            </a:b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FAMILY REACTIONS </a:t>
            </a:r>
            <a:br>
              <a:rPr sz="3200"/>
            </a:b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ретман реакције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ацијента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родице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sr-Latn-CS" sz="2400" spc="-1" strike="noStrike">
                <a:solidFill>
                  <a:srgbClr val="a32134"/>
                </a:solidFill>
                <a:latin typeface="Arial"/>
              </a:rPr>
              <a:t>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3840" y="1928520"/>
            <a:ext cx="82155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матр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тир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оналне реакц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ов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 свакој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е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осећај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глашавајућ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ртнерски однос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мо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ентарис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ритиков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ег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NCOURAGE AND VALIDATE</a:t>
            </a:r>
            <a:br>
              <a:rPr sz="2800"/>
            </a:br>
            <a:r>
              <a:rPr b="1" lang="sv-SE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MOTIONS </a:t>
            </a:r>
            <a:br>
              <a:rPr sz="2800"/>
            </a:b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дстицај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ретман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емоције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00" y="1857240"/>
            <a:ext cx="85010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ј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ч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звол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ражав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њ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 осећа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с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... 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рин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ши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реба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 пријемчивиј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реб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кључених запослен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об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920" y="-429120"/>
            <a:ext cx="7858080" cy="31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а у палијативном збрињавању 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920" y="1928880"/>
            <a:ext cx="8786880" cy="42861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тина, као и отвореност и искреност у вези са стањем пацијента, су кључ делотворног збрињавања умирућих болесник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творена комуникација не убија над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тоје докази да већина људи жели да зна истину и да се боље носи са ситуацијом ако јој се подршка пружа путем искреног разговора о ситуацији у кој се налаз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да се обавља саосећајно, отворена комуникација пацијенту даје наду и храброст да се суочи и носи са ситуацијом у којој се налаз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а у палијативном збрињавању 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13840" y="1928520"/>
            <a:ext cx="8929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дна од кључних комуникацијских вештина у палијативном збрињавању је препознавање знакова/сигнала које даје пацијент и реаговање на њих, односно омогућавање пацијенту да разговара о питањима која га муч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8440" y="-357480"/>
            <a:ext cx="80010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СКРЕНА ОТВОРЕНА КОМУНИКАЦИЈА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7120" y="2143080"/>
            <a:ext cx="8429760" cy="35006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принос изградњи поверења и емпати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ањује неизвесно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маже пацијенту да се носи са сиуацијо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ржава реалне над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ставља прилику да се, кроз препознавање сигнала које пацијент даје, разговара о ономе што брине 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маже пацијенту и породици да преузму контролу и да се припреме за смр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74396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85840" y="1714320"/>
            <a:ext cx="8572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Шта је лоша вес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е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чке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ледишта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</a:t>
            </a:r>
            <a:r>
              <a:rPr b="0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ативан утиц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 будућно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тицај лоших вести о искуству себе</a:t>
            </a: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“I left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my house on October 2, 1996, as on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person and came home another”. (Lanc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rmstrong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ЕЛОТВОРНА КОМУНИКАЦИЈА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560" y="1857240"/>
            <a:ext cx="87152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сим вештине комуникације, комуникацију подстиче 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вољно времена на располагањ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тупност здравсвених радник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в здравствених радника о томе да је комуникација  важ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-21420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ЕПРЕКЕ ДЕЛОТВОРНОЈ  КОМУНИКАЦИЈ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840" y="1428480"/>
            <a:ext cx="8572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ијере професионалац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ах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ће се пацијент узнемири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ће донети више штете него кори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ња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е ништа не може урадити у погледу емоционалних пита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се разговором о бригама/стрепњама пацијента његова очекивања неоправдано  повећавај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одговарајуће вештине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и радник није сигуран како да се носи са тешком ситуацијом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неспособност процене сазнања пацијент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достатак подршке нпр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станак подршке пацијенту уколико се проблеми идентификуј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станак подршке тим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-786240"/>
            <a:ext cx="85723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ЕПРЕКЕ ДЕЛОТВОРНОЈ  КОМУНИКАЦИЈ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5480" y="1642680"/>
            <a:ext cx="8643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ијере пацијена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трах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</a:t>
            </a: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 признања да нису у стању да се носе са ситуацијо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 тога да ће се њихови најгори страхови обистини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ња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у здравствени радници презаузе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у њихове бриге неваж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тешкоће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искажу осећа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нађу праве реч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сигнали које дају здравственим радницима се игнориш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5480" y="1428840"/>
            <a:ext cx="8429400" cy="5216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1 – суочавање са болешћ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верица или негирање ( ја немам рак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грешна дијагноза, грешка у преглед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 " то није мој налаз", "налаз је замењен")                             </a:t>
            </a:r>
            <a:r>
              <a:rPr b="1" lang="sr-C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КОЛИКО ДАН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ајање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ептицизам ( " ја сам готов", " сви с раком умиру"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лагање са новијим методама и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редствима- техникама лече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642680"/>
            <a:ext cx="8501040" cy="50007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2 – Дисфор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нксиозност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епрес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норекс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дражљивост                                                                    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 - 2 НЕДЕЉ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аниц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лабљена концентрац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емећене дневне актив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8501040" cy="457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3 – Адаптац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лагођавање новим информацијама о лечењ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хабилитацији, будућ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очавање са стварним информацијам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ажење разлога за оптимизам                                  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ЕСЕЦ ДАНА и виш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налаза нових циљева у животу, послу,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тив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И У КОМУНИКАЦИЈИ 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358120" cy="457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лух са породицом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флик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е реак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 је несвесни ментални процес који служи ко одбрана против анксиозности који изазива спољна  прет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 је нормална и здрава реакција која постаје патолошка тек када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</a:t>
            </a: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" искриви"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 потпуно одбаци стварно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ретање пажње је нормално и може помоћ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у се морамо супротставити  ако изазива штет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ле порицања обично следе бес, кривица, депрес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ДРШКА ПАЦИЈЕНТУ КОЈИ НЕ ПРИХВАТА ИСТИНУ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јте га и дозволите му да изрази мисли и осећања: прихватите, али не подстичите и не одобравајте пориц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ичите наду, али избегавајте давање лажне утех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јте га да бисте препознали конкретне бриге, пажљиво га подстакните да Вам каже више о томе што га мучи: направите атмосферу сигурности у којој болна стварност може бити свесно прихваћн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удите решења за одређене бриге, нпр.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ако ова болест изазива јак бол, има много начина на које се може помоћи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 је порицање проблем, покушајте да се благо супроставите нпр.,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 ли икада размишљате о томе да се то можда неће догодити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ажите " пукотину" у  порицању, нпр.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гледа као да се питате да ли нешто друго изазив бол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ЕС/ ЉУТ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1714680"/>
            <a:ext cx="8358120" cy="42861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с је уобичајена реакција на губитак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 основи беса су осећања беспомоћности и очајничке потраге да се свету да ново значење пошто је претходно измакло контрол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о је да не покушавате да објашњењем умирите бес када комуницирате са неким ко изражава бе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слушајте и препознајте и прихватите такво испољав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ајте разлоге за бес пажљивим слушање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840" y="1356840"/>
            <a:ext cx="89298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жина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ативн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виси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лике између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екивањ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ућнос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 здравственог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а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тој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итуацији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дговор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оживљавање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а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тиче психосоциални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текс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:</a:t>
            </a:r>
            <a:br>
              <a:rPr sz="2400"/>
            </a:b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- Дијагноз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лне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П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тев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PCI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т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дељ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свадб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к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br>
              <a:rPr sz="2000"/>
            </a:b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- Тремор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ирурга</a:t>
            </a:r>
            <a:endParaRPr b="0" lang="en-US" sz="2000" spc="-1" strike="noStrike">
              <a:solidFill>
                <a:srgbClr val="a32134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АЈНИ ДОГОВОР/ ДОСЛУХ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358120" cy="47862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јно договарање родбине пацијента је честа појава, али се може срести и код професионалац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ђаци могу да замоле здравственог радника да прикрије информације од 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о је запамтити да је оваква врста дослуха често чин љубави или потребе да другог заштитите од бол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ни који инсистирају на дослуху често твдре да пацијента познају боље од здравтвених радника и да знају " шта пацијент може да поднесе"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дбина често сматра да ће се саопштавањем истине пацијенту одузети над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ајте разлоге за прикривање ист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породици пацијента да мора да се изађе у сусрет пацијентових потреба за објашњењем, којим ће се побољшати његово разумевање сопствене ситуаци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во се договорите да приђете пацијенту са циљем да проверите колико он разуме ситуациј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АЈНИ ДОГОВОР/ ДОСЛУХ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480" y="1785960"/>
            <a:ext cx="8358120" cy="4572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ећаје да пацијенту нећете дати ни једну информацијију коју он не затраж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рођацима да када се прихвати реална ситуација нада може да има више смисла и да се заснива на краткорочним достижним информација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 онима који желе да прикрију истину разговарајте о емоционалној цени таквог поступка. Нагласите колико је та емоционална цена висока и испитајте са рођацима колико је вероватно да и сам пацијент прећуткује да зна истину и да је свестан истине, односо да сумња и да је спреман да разговара о важним питањи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да искрени разговор омогућава пружање утехе пацијенту у вези са многим питањима која га брину и да му помаже да буде смиренији и планира, односно да  прилагоди своје наде и циљев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рганизујте поновни разговор и отворите могућност да се сусретнете заједно са пацијентом и рођацима ако су и једни и други свесни реалнос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ли има лека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 ја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ико времена ми је преостало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 ће се десити након овога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последњих часова живота) 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ли би нека друга терапија помогла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нога од ових питања су реторичка и на њих нема јасних одговор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пак, она дају прилику да се истраже осећања и помажу да се " избаце" највећи страхов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главном се ради о настојању да се ситуацији да неки смисао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СТУПАЊЕ У СЛУЧАЈУ ТЕШКИХ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верите зашто је пацијент поставио дато пит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кажите да сте заинтересовани за његове иде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врдите оно што пацијент говори или елаборирајте нпр 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1" i="1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тно сте у праву ..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 спремни да признате да нешто незна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кажите емпатиј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бог чега комуникација </a:t>
            </a:r>
            <a:r>
              <a:rPr b="1" i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" пуца"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понекад не могу да нађу речи којима би изразили своја осећа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не желе да буду терет и боје се да ће </a:t>
            </a: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"пући"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носно да ће им живци попусти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се стиде да признају да имају проблем са савладавањем сопствене ситуације, или им професионалци делују превише заузето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евени радници се боје да ће код пацијента изазвати душевни бол, штету или бриг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и радници се не осећају на свом терену и сматрају да емоционална подршка није део њихове професионалне улог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онални одговор пацијента нас лично погађ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нашање које спречава комуникацију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рано давање савета и утехе, пре него што се уопште идентификује главни проблем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иподаштавање душевног бола као нечег нормалног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окусирање на физичке аспек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мене тем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путно " развесељавање"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КЉУЧАК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крена и отворена комуникација је кључан елемент палијативног збрињав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тоје обрасци које можемо користити када се нађемо у тешким ситуација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е раднике не треба да буде страх да признају да нешто не знају, или да им је потребна помоћ у одређеној ситуациј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циљ делотворне комуникације је да се од пацијента и чланова његове породице" извуче" шта осећају, о чему размишљају, шта их брине и да им  се пруже одговарајуће повратне информације, подршка и утех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5298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рактеристик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да саопштават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2714760"/>
            <a:ext cx="841536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зициј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ступ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људ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цирају лош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асноћа информ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говор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лова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ћ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еба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лик комуник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шт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је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цирати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лучају лоше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13840" y="2571480"/>
            <a:ext cx="8929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тратрансфера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супро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у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: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х д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вредимо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х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убитк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трол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спех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тренинга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омуникацијских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ештина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?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нос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утоматски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чења до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лности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цирају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Филозофско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ит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кације с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нта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уч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ком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удиј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лу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?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уч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78588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шт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је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цирати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лучају лоше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3840" y="2571480"/>
            <a:ext cx="8929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лекар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мају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ругачије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спектив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ем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елимично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а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ру в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екар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редстави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е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ињениц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вештав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"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збилних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лоших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вештав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сти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ум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ао лош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ло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роничн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кључујући неугрожавајућу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ег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8952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Как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бежим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изичк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егав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аргон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н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зик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!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егам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ом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мерен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екар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творе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говор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говор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иси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920" y="1571400"/>
            <a:ext cx="4038480" cy="421452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Зашт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бежим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аопт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урадимо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ризн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успех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узрокујемо 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његов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па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окаже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б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м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од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29840" y="6064200"/>
            <a:ext cx="14061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a32134"/>
                </a:solidFill>
                <a:latin typeface="Comic Sans MS"/>
              </a:rPr>
              <a:t>Prof. E. Klain</a:t>
            </a:r>
            <a:endParaRPr b="1" i="1" lang="en-US" sz="16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560" y="1285920"/>
            <a:ext cx="9001080" cy="31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сихолошк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физичк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енталн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егзистенцијалн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аспект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ј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м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е</a:t>
            </a:r>
            <a:br>
              <a:rPr sz="2400"/>
            </a:b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роватн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тица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изичк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н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br>
              <a:rPr sz="2400"/>
            </a:b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жав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ор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ивот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6840" y="-214560"/>
            <a:ext cx="745812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и у комуникацији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5480" y="2214360"/>
            <a:ext cx="8001000" cy="3429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општавање лоших 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лух са породицом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флик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е рак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7:18:45Z</dcterms:created>
  <dc:creator>Nebojša</dc:creator>
  <dc:description/>
  <dc:language>en-US</dc:language>
  <cp:lastModifiedBy>Milanče Sin</cp:lastModifiedBy>
  <dcterms:modified xsi:type="dcterms:W3CDTF">2023-02-05T16:16:07Z</dcterms:modified>
  <cp:revision>117</cp:revision>
  <dc:subject/>
  <dc:title>Slide 1</dc:title>
</cp:coreProperties>
</file>